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879263" cy="899953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198-B78C-4DC0-800F-314243D4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1024704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6120" y="5378400"/>
            <a:ext cx="1024704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1DE-1BC8-456E-8A05-41ECF133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67080" y="239544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6120" y="537840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67080" y="537840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AF2-69A7-4E9F-A1FF-D419D1C1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3299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0760" y="2395440"/>
            <a:ext cx="3299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45760" y="2395440"/>
            <a:ext cx="3299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6120" y="5378400"/>
            <a:ext cx="3299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0760" y="5378400"/>
            <a:ext cx="3299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45760" y="5378400"/>
            <a:ext cx="3299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96A-27CB-4EDE-B464-E143D885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6120" y="2395440"/>
            <a:ext cx="10247040" cy="57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57C-7CA3-46D0-BED3-103315BC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1024704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EF6-0412-47C0-97EA-3E797409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50004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67080" y="2395440"/>
            <a:ext cx="50004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86C-BF48-4042-821D-52FBA544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F7D-468A-4969-A35C-CC6F619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6120" y="479160"/>
            <a:ext cx="10247040" cy="80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25C-90F3-4675-BF8C-658E06FC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67080" y="2395440"/>
            <a:ext cx="50004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6120" y="537840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36E-24B0-4563-A43B-22E06C40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500040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67080" y="239544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67080" y="537840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CF7-5C8F-4277-89DB-9ACDE75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6120" y="239544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67080" y="2395440"/>
            <a:ext cx="500040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6120" y="5378400"/>
            <a:ext cx="10247040" cy="27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0DC-F87F-4B60-9D4C-907DA6A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6120" y="479160"/>
            <a:ext cx="10247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6120" y="2395440"/>
            <a:ext cx="10247040" cy="57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90640" indent="-2970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484280" indent="-2970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20779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671920" indent="-2970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671920" indent="-2970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671920" indent="-29700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187280"/>
                <a:tab algn="l" pos="2374920"/>
                <a:tab algn="l" pos="3562200"/>
                <a:tab algn="l" pos="4749840"/>
                <a:tab algn="l" pos="5937120"/>
                <a:tab algn="l" pos="7124760"/>
                <a:tab algn="l" pos="8312040"/>
                <a:tab algn="l" pos="9499680"/>
                <a:tab algn="l" pos="10686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6120" y="8340480"/>
            <a:ext cx="267336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pt-BR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520" y="8340480"/>
            <a:ext cx="40082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9800" y="8340480"/>
            <a:ext cx="267336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pt-BR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fld id="{DBD299AA-3CCA-44EF-ACA1-ECD3FC12DE7D}" type="slidenum">
              <a:rPr b="0" lang="pt-BR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workshoplaboter2@gmail.com" TargetMode="External"/><Relationship Id="rId3" Type="http://schemas.openxmlformats.org/officeDocument/2006/relationships/hyperlink" Target="http://laboter.iesa.ufg.br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onordeste.com/administrador/personalidades/imagemPersonalidade/55785d48c2a75807087fc8bd4954d506999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600" y="-28440"/>
            <a:ext cx="11891880" cy="902808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3"/>
          <p:cNvSpPr/>
          <p:nvPr/>
        </p:nvSpPr>
        <p:spPr>
          <a:xfrm>
            <a:off x="103320" y="34920"/>
            <a:ext cx="3730320" cy="86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6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II WORKSH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6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A EXPANSÃO DA AGROINDÚSTRIA CANAVIEIRA EM GOIÁS/BR</a:t>
            </a:r>
            <a:r>
              <a:rPr b="1" i="1" lang="pt-BR" sz="16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: Terra, Água e Trabalho no Sul Goi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te Evento propõe um espaço de reflexão, discussão e pesquisas sobre os desdobramentos socioambientais e as mudanças nas relações de produção e trabalho resultantes da expansão da agroindústria canavieira no Sul Goiano – Goiás/Bras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 II WORKSHOP </a:t>
            </a:r>
            <a:r>
              <a:rPr b="0" i="1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A EXPANSÃO DA AGROINDÚSTRIA CANAVIEIRA EM GOIÁS – BR: terra, água e trabalho no Sul Goiano”, está 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inculado às atividades de pesquisa, ensino e extensão desenvolvidas nos Cursos de Graduação e Pós-Graduação em Geografia do Instituto de Estudos Socioambientais (IESA/UFG), no âmbito Grupo de Estudos e Pesquisas Trabalho, Território e Políticas Públicas do Laboratório de Estudos e Pesquisas das Dinâmicas Territoriais (LABOTER), em parceria com a Universidade de Strathclyde - Business School e outros núcleos de pesquisas e instituiç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e busca reunir professores e pesquisadores da Geografia e ciências afins, representantes dos movimentos sociais e sindicais, trabalhadores, estudantes de graduação e pós-graduação para debater os efeitos da agroindústria canavieira no Sul Goiano, Goiás/Bras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ste sentido, o Evento contribui para aproximar pesquisas, estabelecer parcerias e promover o </a:t>
            </a:r>
            <a:r>
              <a:rPr b="0" i="1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contro de Saberes</a:t>
            </a:r>
            <a:r>
              <a:rPr b="0" lang="pt-BR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oportunizando um diálogo efetivo a partir de ações construídas na Universidade com os trabalhadores, comunidades tradicionais, movimentos sociais e sindicais no território goian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2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Participe conosc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aixaDeTexto 9"/>
          <p:cNvSpPr/>
          <p:nvPr/>
        </p:nvSpPr>
        <p:spPr>
          <a:xfrm>
            <a:off x="4068720" y="-20520"/>
            <a:ext cx="3905280" cy="89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6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PROGRAM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1. CREDENCIAM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CAL: Auditório da Escola de Agronomia/UF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RÁRIO: 8h00 às 9h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2. MESA REDONDA: Qual a situação do sul goiano?: Trabalho, Terra, Água e 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posição da mes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. Dr. Brian Garvey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Universidade de Strathclyde - Business School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arecido Bispo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Secretário Geral- FERAES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ento de Godoy Neto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Superintendente de Recursos Hídricos – SEMARH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CAL: Auditório da Escola de Agronomia/UF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RÁRIO: 9h00 às 11h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3. GRUPOS DE DISCUSSÃO: TERRA, ÁGUA E TRABALH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CAL: Auditório da Escola de Agronomia/UF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RÁRIO: 13h00 às 15h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RUPO 1: Conflitos por terr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ORDENADOR: </a:t>
            </a: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iago S. de Melo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Doutorando em Geografia IESA/UF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RUPO 2: Conflitos por águ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ORDENADOR: </a:t>
            </a: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obias Bueno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Mestrando em Geografia IESA/UF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RUPO 3: Precarização do trabalh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ORDENADOR: </a:t>
            </a: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icardo F. Assis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Doutorando em Geografia IESA/UF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4. REUNIÃO DOS GRUPOS DE DISCUSS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ORDENADOR: </a:t>
            </a: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. Dr. Adriano Rodrigues de Oliveira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IESA/UFG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CAL: Auditório da Escola de Agronomia/UF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RÁRIO: 15h30 às 18h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ixaDeTexto 10"/>
          <p:cNvSpPr/>
          <p:nvPr/>
        </p:nvSpPr>
        <p:spPr>
          <a:xfrm>
            <a:off x="7974000" y="98280"/>
            <a:ext cx="37288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6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ATENÇÃO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O WORKSHOP SERÁ DIA </a:t>
            </a:r>
            <a:r>
              <a:rPr b="1" i="1" lang="pt-BR" sz="1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1/10/2014</a:t>
            </a: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(Terça-feira), na </a:t>
            </a:r>
            <a:r>
              <a:rPr b="1" i="1" lang="pt-BR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ola de Agronomia</a:t>
            </a: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, Campus Samambaia/ UFG, Goiânia-GO.</a:t>
            </a:r>
            <a:r>
              <a:rPr b="1" i="1" lang="pt-BR" sz="1400" spc="-1" strike="noStrike">
                <a:solidFill>
                  <a:srgbClr val="ed7d31"/>
                </a:solidFill>
                <a:latin typeface="Arial Narro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AS INSCRIÇÕES SÃO GRATUITAS E PODERÃO SER FEITAS NO DIA E LOCAL DO EVEN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EMITIREMOS CERTIFICADO DE PARTICIPAÇ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i="1" lang="pt-BR" sz="1400" spc="-1" strike="noStrike">
                <a:solidFill>
                  <a:srgbClr val="c55a11"/>
                </a:solidFill>
                <a:latin typeface="Arial Narrow"/>
                <a:ea typeface="Times New Roman"/>
              </a:rPr>
              <a:t>Para mais informações: </a:t>
            </a:r>
            <a:r>
              <a:rPr b="0" i="1" lang="pt-BR" sz="1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workshoplaboter2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pt-BR" sz="1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3"/>
              </a:rPr>
              <a:t>http://laboter.iesa.ufg.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Tel.:(62) 3521-1184 (Ramal 22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pt-BR" sz="1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 </a:t>
            </a:r>
            <a:r>
              <a:rPr b="1" lang="pt-BR" sz="1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(62)8247-8100 (WhatsAp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4"/>
          <a:stretch/>
        </p:blipFill>
        <p:spPr>
          <a:xfrm>
            <a:off x="9223200" y="8107200"/>
            <a:ext cx="567000" cy="635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5"/>
          <a:stretch/>
        </p:blipFill>
        <p:spPr>
          <a:xfrm>
            <a:off x="10115640" y="8107200"/>
            <a:ext cx="441360" cy="63504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pic>
        <p:nvPicPr>
          <p:cNvPr id="47" name="Picture 3" descr="Logo Laboter_OFICIAL"/>
          <p:cNvPicPr/>
          <p:nvPr/>
        </p:nvPicPr>
        <p:blipFill>
          <a:blip r:embed="rId6"/>
          <a:stretch/>
        </p:blipFill>
        <p:spPr>
          <a:xfrm>
            <a:off x="9156600" y="6899400"/>
            <a:ext cx="1501920" cy="42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8" name="Imagem 15" descr=""/>
          <p:cNvPicPr/>
          <p:nvPr/>
        </p:nvPicPr>
        <p:blipFill>
          <a:blip r:embed="rId7"/>
          <a:stretch/>
        </p:blipFill>
        <p:spPr>
          <a:xfrm>
            <a:off x="9172440" y="7389720"/>
            <a:ext cx="14860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6T11:08:40Z</dcterms:created>
  <dc:creator>Natalia Mesquita</dc:creator>
  <dc:description/>
  <dc:language>en-US</dc:language>
  <cp:lastModifiedBy>UFG</cp:lastModifiedBy>
  <dcterms:modified xsi:type="dcterms:W3CDTF">2014-10-20T16:19:05Z</dcterms:modified>
  <cp:revision>42</cp:revision>
  <dc:subject/>
  <dc:title>Apresentação do PowerPoint</dc:title>
</cp:coreProperties>
</file>